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29AE-4110-4726-B53D-D22E077B6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3498-4F18-406E-8710-C3BEA238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0BD9-0EB9-48A1-937A-97E92E461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AB32-A815-4D2A-8493-3CC67D193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4B84-0BA3-49BF-874F-A091D8CCD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C003-B5E4-49F7-B787-555DB721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7D27-D9B2-4F94-9394-7A665DF2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FFBD-15C4-4271-9ADD-8C7E623F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32F6-F808-46BF-9E58-58E44F28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4840-B6D9-41A8-B593-1CF21356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5568-3496-4BCF-8ED0-405F7967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0F44-CF5F-4D77-A37B-71174E62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A62D-3878-4093-AF9E-39C0E4F4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D739-D599-47D9-9230-206E65C7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4CE9-2652-4EA8-A1AF-10C0D55D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72A1-B2AE-4C46-A177-A1181808A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813E-4ADA-425C-AF69-BD025D4B1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40F7-3D1D-4D3F-A383-36F67088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74DF-A70E-43BE-8F25-B8CB7F4E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49ED-ECF7-42B0-91D5-28291568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87ED-78EF-41F1-A0B1-65A4FBB3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9E3E-1A13-403C-9199-30D92BBB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0E86-2559-4ED4-8445-05BF5EAE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2658-9C56-402F-BEB3-A294F01F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8E0F-00E8-4451-B53B-64952F7BB9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A69C-E844-4E10-9F14-F1362F0F37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h. 3 Lesson 2: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Buying Personal Product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162920" y="380880"/>
            <a:ext cx="1433520" cy="1814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553080" y="4191120"/>
            <a:ext cx="2109960" cy="2019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1103400" cy="2125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 rot="20499600">
            <a:off x="3124080" y="419076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os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 the term quacke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two ways in which the information on product labels can help yo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a warran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ight NOT reading a product’s label be dangerou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ELL ACTIVIT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ich product will you buy?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Toothpas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19320" y="2971800"/>
            <a:ext cx="1817640" cy="1747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886200" y="2895480"/>
            <a:ext cx="1571760" cy="1791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553080" y="3200400"/>
            <a:ext cx="196236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ecisions, Decis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umers (YOU) spend millions of dollars each year on personal products – shampoo, toothpaste, and skin crea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nies spend millions of dollars too – trying to convince you to buy their produ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an you choose wisel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Figure 3.3 Choosing Personal Products Wisely p. 65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√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es the product offer the results I am looking fo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√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 the product safe? Can it harm me – or oth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√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at benefits can I realistically expect from the produc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√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 the product worth the price? Is there an equivalent product that costs l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√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at sets the product apart from other, similar produc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√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ve I used other items made by the same company? Was I satisfi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ise Buy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Quackery – the sale of worthless products and treatments through false clai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be advertised in the mass media, sold through the mail, or offered over the ph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makers claim that they cure or prevent diseases or other health proble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238880" y="304920"/>
            <a:ext cx="113040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voiding Quacke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ember that product claims that sound too good to be true usually are. Be especially careful of claims concerning beauty aids, diets, and “miracle” produ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be taken in by impressive sounding words, “secret ingredients” or glowing testimonials by unknown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ware of “free” samples for which you’re asked to send money to “cover shipping and handling cost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 with your doctor or pharmacist before buying or using produc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924680" y="5181480"/>
            <a:ext cx="89388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ading Product Labels p. 67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help you make safe use of the products you bu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gure 3.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’s intended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ount in contai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ions for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ufacturers name and add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d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rn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mparison Shopp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a habit of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arison shopp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aring products, evaluating their benefits, and choosing the products that offer the best val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nsider these factors when comparison shopping…p. 68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st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– Compare prices of the same brand in different st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eature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– Avoid paying for features that you don’t n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ality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– Well-made products generally outlast those that are poorly made. “You get what you pay for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arranty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– Before you buy a costly product, ask about the warran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7:44:50Z</dcterms:created>
  <dc:creator>GSCS</dc:creator>
  <dc:description/>
  <dc:language>en-US</dc:language>
  <cp:lastModifiedBy>GSCS</cp:lastModifiedBy>
  <dcterms:modified xsi:type="dcterms:W3CDTF">2010-10-04T17:37:19Z</dcterms:modified>
  <cp:revision>3</cp:revision>
  <dc:subject/>
  <dc:title>Ch. 3 Lesson 2: Buying Personal Products</dc:title>
</cp:coreProperties>
</file>